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85B-68D2-4E74-800C-4E5A16D3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70E-A632-42ED-BD73-AA5F9366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365DB-0A59-40A5-B01A-7FA27369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18A13-ED00-4DFA-8560-A20D0331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F1B61-61F8-4BB5-A9BD-D0AF6A19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DF6A3-E8DE-4BDB-96D8-D09C5EF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499EB-72A7-40A0-9D3A-B065A00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EFD33-33B1-46ED-8294-A3F9FBF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04F96-E5E2-4D58-A97E-E75F455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3BB76-7467-4C60-B8C1-860BCA55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3E95-FCA9-4A14-9763-31D87875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59195-C010-4604-80C2-08B77C22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C2A-2E1C-4071-85CD-87BF9590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67680-C9D7-4593-9BE0-0746047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AA162-F4BA-43EA-9F2D-D40BE16F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BADDA-7C89-4A88-B19C-E8763F8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E5EFF-7ED3-4574-BAFA-7ABAD1B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7C9E1-9C9A-4EF2-BF15-14F0F89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A13DE-BF7A-445A-BF3F-54E00B6B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A20D-54A8-4425-98B5-1BF12A7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30A48-A786-402D-9DED-65C8260D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AA351-E3D9-4257-B8AC-87B91843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CDF91-9E1D-40F4-AA8E-3E88BDA9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1D0-6AA1-4C75-9292-C06D2D8A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99D8F-7EE8-4832-BFA0-18536579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E2CBE-3479-4509-BCD8-39B2F4A4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2003-C9A4-4049-9E0E-EF736C7C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DDEB6-BF99-44A2-B2F5-E0F87B75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49EA9-6BE6-4894-A9CF-452AA525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42A3-FE68-4E20-A679-9C734A9F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396AD-2EAD-41C5-8E6D-E380D676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8850D-BF06-4902-B344-4BDA25EF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AB3F1-256D-4133-914C-FF36119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1AB9C-B4E2-411D-8359-4DCDBC3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7C55-5F6B-452A-979E-864DDB2B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5558F-8DDD-4C08-A75C-FC81A76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2CB1C-C01A-476B-886E-29257CE9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4B919-5B0C-4141-9F45-06D7EF6A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B3795-7E0B-4E24-907F-E260FFF4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EAA8-8F20-4753-8C90-9094975B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F2B94-39D3-4A5F-9399-1C8DC31A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1B739-1CDC-4A3B-A7B1-088A3E0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98F39-B0D2-44FD-BC1B-A717177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4A62E-8115-47D8-9D2C-778C830E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893E9-3991-47E8-B6CD-5FE5BA9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AD4F-AD53-49D5-A26E-7963B35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1C4F0-9912-46CE-A769-B8CE0C4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A72B0-B25B-4D15-A6F0-09BFF64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00E41-B92C-4774-AF95-CCFB9C1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EA930-0817-4195-80B1-B8BE89BE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DCB8-4641-48CD-983D-D90A6C9F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59A80-CBCE-46A6-88AA-2FD4B9CD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F2153-F604-4CDD-8E5C-A55B37D2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65F2E-53C7-44A9-923C-EDC768D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93477-A281-4872-89C5-34043C2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24F32-4E7B-4904-8FB1-2470F35F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2009-4323-4A1A-B20E-6B0AE9D4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B3AE5-2AF3-42C1-A9BB-3C85B4C8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9ECDB-3E8B-4587-9063-BC2D2A4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50CEA-714A-4682-91D6-E1E2C5B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8A969-C9C6-4B4B-8F8B-75D4698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A2C0C-208F-45C5-89E7-D16C08A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BBB3D-BAA9-4625-BA44-E549B7AB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6C3EA-4C3F-4145-8AF8-4B67B67B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0AE5C-A8FC-42DE-A10C-97FB1594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2094A-4EBE-46F3-B7D2-CB2084A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7C817-2CC1-419B-92A0-8E615B84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928E-EE88-469B-9BC4-1B137C25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794B3-B109-42D0-9C70-F386E225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BDBD9-7E29-4AB6-A998-FB8B0383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1D394-05DA-4675-9A1F-A20B4CA2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462ED-8CD4-4D68-857B-491C26E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7B350-FFCB-4422-A3F8-CAFCEA3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436F6-896E-455C-9E26-58738EC5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8BEDE-8DBB-40C9-967F-9CFC9C3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B8726-1EA9-4236-8A26-6EF09A5B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6434B-117C-4F60-9F96-88725C7D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326A1-9737-4ED8-B611-CC3FF6A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C9C4-0552-4547-B303-B9F94F19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C4C78-AF35-43C2-BF49-B057F0ED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3C91F-546A-4CC4-AFEC-CF9D60E8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85489-41E9-43A7-A095-162AAB2A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F54E7-857F-4BF5-B37E-29B74AD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31E85-E378-4206-ACB5-C4F0C06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4AA5D-8331-4DE7-8A97-BDFF727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E2B5E-CAE8-4E4A-A2AD-566A3E51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AAE15-A1E2-4E4A-95AE-07F48EE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6353E-E49C-425A-AA95-7E98FD8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5ECD2-02BA-4871-B028-037223B3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9257-5AA0-4E2C-9E8A-66C1293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EB035-DC66-41C8-ABAF-07FF496E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7985A-5302-4468-9BF6-9645E333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31078-F1C6-4283-84DD-DA9F628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204E0-09F6-4EBA-9D09-79C7C3F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9E31A-10BC-457D-8046-6950EF0E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3EB17-3674-4F6F-AFFD-6F37C75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46859-689D-4D0B-BDA9-A05AF82C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C2F27-C519-4B3F-AA23-10F1324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8ACAC-4710-4FBE-8A15-3181B5B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1D09C-D4B7-4823-B2B3-5AECBA17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EA93-EB6B-4AD5-BC65-23097D8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6A683-D8BB-4756-9D5D-417B1C4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CA04E-98B7-4118-8E8A-855DA8F6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656B8-D52E-4F05-9519-AAAF3BE5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06806-EC45-4316-A694-A665F56C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D6E0A-628F-48A6-A371-C98A66C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F3E00-4A4A-45E9-8523-C55A813D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10A06-03B6-4E1C-9DC3-0721B1C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473AD-7F25-40E5-8A54-2F4A59E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6F5CA-D028-4298-807E-FDA884B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80325-F83C-4006-9358-84F1D47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A94-FD19-4070-8805-8E64D17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C877-9020-4469-B307-5823B347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8C625-0455-47B5-A2BA-0DA0A2F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BCAB5-FD7E-4A37-B826-F0CAC91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83F40-D887-4841-9186-201F3E3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72975-EDC2-456D-B3ED-E1699E63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10D84-B425-47C7-A749-B105C453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BEA4A-8DB6-40B1-9346-09C77FD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468F5-D80D-4C6E-B638-8451802C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BE61A-70E5-47B0-99E7-179CA95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FFBB0-5B86-4EBF-BF69-A1319A0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58969-031F-4B9D-82AC-D86AE0E1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02B2-F3F3-4713-B4B6-F49882B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8856A-6BEB-42B6-9A02-99C7B9F2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EAE81-B19E-42B5-9A3E-9888F13C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FB8F0-E75C-40DD-A41A-78077B3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BEA5A-6582-47F6-97BB-2810F99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3A8A9-FEBC-4CC3-9153-1311F5DC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C28AE-00C8-4357-B0A1-95A18CB8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B51BF-AB59-4524-AFA8-B18853FF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C4B64-0B1C-4AE1-87EC-96AB2D74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E7EFD-11EB-49C7-9F6E-20720B8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4288D-0403-45E9-BA53-01731582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B8C-123E-4A71-9580-9D49182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CDD64-E84B-4249-9C9C-9ABB65F4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D8377-8A37-4E56-8533-FAEE8EE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0F907-2FF9-41DE-A195-0538521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B7954-13D3-4BC3-BC7B-8362343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A70B3-CB81-4F90-98FB-8BD9C91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9CB5D-C611-4804-9264-9A92EAF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0C759-DBCB-47BF-A5A5-5D1F2D5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09E77-D6F8-4547-88B6-7FCF327A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85241-51F3-41AA-91DB-C2C70CE9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62A22-BD6A-4BA6-AE34-2B27A96F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CEF-0ADB-42BC-84CA-E4023C2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6569C-F5CA-4029-A5D8-910E0521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E0C37-4374-4053-8E27-9DD477EF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082E3-C0F4-4353-AF86-AE8B559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C3842-5C18-44A0-889A-F6E0500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31EF9-DE48-44D3-A437-76038A0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0A344-B3A7-4139-863F-CE0AB24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99F2D-B0D8-48D4-8F75-6EC6554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F12545-FBCB-4582-88ED-F3B8C45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C93B2-1D03-477C-9418-AA6635BD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32E16-2512-4633-A727-7728B5F1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954-FD0C-48C5-AD13-0CC4D6DF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4921E-761F-4630-9E0D-B173FC9D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16891-76BB-4E55-A8A6-1787D690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0D085-5331-4414-A088-2F847876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B2D1E-4E0C-4664-940A-28484A17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2DA1C-9DFD-425B-A6E0-3E6ECF4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6B778-D945-4C3F-BF7E-5E732691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638BB-C6EA-48F4-9134-DA1A06A4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49253-4E75-4A91-A2BA-5A55B587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04F40-47A6-4A8C-ACFD-50947FCD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9B5CC-BBF7-44F6-B542-0754346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97AB-3A65-4305-B277-9760AD0B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AF87F-6B23-4D43-8FE9-FFDB657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2A7DB-5337-45F2-B331-B79B3A3A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FE6EB-0A4F-4C02-B2AD-5B73C85A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6CEC-198A-4160-9C16-2B14D939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8774-43B1-4A25-A994-B5E390E3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2809-3F32-4091-A442-943D2BC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6816-9C6F-4A2A-B4AD-4E3452D8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ECB-5E10-4210-A571-A8C21B60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6309-2A0D-4494-B761-EEE996A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2C1B-4DA3-4A6C-A342-F71CB41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DC5F-11C3-4F24-B4DF-1D11A78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7CDB-A140-409A-9702-2D2EBC2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88C6-0526-4E91-B560-0D7EABE0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14A2-8ACF-45A3-B455-3F052515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F321-707C-4609-98B2-9895A5AA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457B-1502-4421-9748-C945CD73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9EDF-891D-4FB6-9D43-FE0607F1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8758-45BE-4F37-A281-F275206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225-1CEF-4931-9087-A89C65E7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DA9C-FF4F-4B80-B204-461C24DB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5D3B-EE45-49FA-B2EF-0B5D32A6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6B5D-D261-4B5A-B989-D66A8553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672F-D1B0-44ED-A7D6-2FA6E9A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C954-EDF8-4E90-A02A-7AB3612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F7E9-5C43-4393-B65B-873D027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92D0-E3F7-4203-B182-CB662CE4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E409-1C7C-485A-BF18-B2B5F54C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1D94-0D0D-4B8B-91CE-866DA130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2773-E167-490D-9614-8361DCDB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9FC-3A4C-432A-8109-EF5056F4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BEF90-E2C9-4C92-A158-9D7F475C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5A3A-A84A-4B56-8B3E-8309AAB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88A7-425B-4F04-BA65-469691D8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E9EB-A17D-411C-8591-3BD0F30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271B-4303-4350-8528-C50C8252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0AEE-56D4-4E66-A91C-3884B40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8084-FAC8-452E-ABAC-CD08F84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C6F4-6A45-49B5-B142-356AE6C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F14A-EED2-4AF2-AEE2-191733BC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F720-B474-4C90-A270-30A160DF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CC7-8EE0-424C-9D21-E679E420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C346B-E5BD-4516-B016-11B0F63D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8B6F-358F-4C93-AEEA-991991CF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B222-0E89-4584-A3C9-8C2B050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72B9E-51B8-43FA-ADDA-B6E69F1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D3782-380C-479A-8B6B-5CC7E91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0D617-5F24-42F0-BEAD-929C625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F893-6F39-479E-A610-8A12A6BC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C52F-835C-42B1-B791-C95F09E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110D3-BDEF-472A-8210-1E97502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D3CF-D9CB-4F5D-813C-C313776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389-9179-4D9F-8A07-39DDAE0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E26ED-3B35-493B-8B72-F1A33BA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8C78D-3982-406F-996D-35339201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A74E-CC75-403F-906C-3C22EDF1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0C465-D158-44FF-8429-4F5AFA60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588A5-C4F7-48F6-B84D-76501398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3600D-1F7C-4656-8453-0E17097D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F6193-FE59-4AE2-BA86-C487C88D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7264-D090-4455-9AC6-6A541BCE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C58C7-983C-4AC9-BC6F-87AE0232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F830-D390-41C6-A603-4A5E4ED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00C-FA80-4480-9963-D443DE4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C70A-B9D7-4461-B017-7198B13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B8DE-245C-4132-AABA-CFC74EB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BD7C-CB1B-40C7-8777-220D2426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527A-08E9-45FC-8CB3-39B20BA7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A50D5-3A78-402C-8C23-F1768DB6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E4704-92E2-486F-BB42-9776CB76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EA7B-D5C4-4062-AD53-4E677277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9C8B6-0871-4D86-9683-17B1DB75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444AF-36BC-440D-B2C6-549E642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9FAFF-31F9-4A14-B3E5-8387A90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8D9-797E-4466-B828-E60F6D92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A5CD-80C8-4C2E-BB4E-3E004EDD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1ED3-616B-4E19-99EA-0FDAB202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56287-F13B-4D86-8A9A-DEAFE35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8101-2228-42B2-99A4-ADA263E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AE84-9292-4882-80C1-63D897C2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69A4A-DCBE-4516-971F-5198CB0C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42E7C-B957-43CC-BCDE-6CD2B32D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2B1F5-0AEA-4F8C-9C67-6DA78749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A4C0-8EA5-42CB-89BA-C63B2FEE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1BCC5-26D3-44F9-A374-4CFFB71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1806-468A-4A22-83CD-E78CDBBDE4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913-4DB7-4177-8811-1BC1BAFA8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0940-0295-4238-BC30-5134ADAFD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649E-EF56-4B45-9DB5-1E7A43E41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588-FE77-4D8F-801D-AB2A4BF45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517A-3FC0-4026-B300-DF16A35B9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D184-B336-4EA8-9B8F-9425C5680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1CA-7A6E-4512-AD30-35B89BB68E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F1D-CA71-49EA-A9BD-5E7B96572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22E-9C8F-4769-A394-A9630B8B8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C06-13FC-4797-B6A8-C52FA0631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D69C-8B7F-4388-87D3-55EE129E6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74C-2FEE-4330-8597-040347087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B0CC-BAB9-4F84-897A-FCAF1DE0C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3CF-82D4-4FB3-AACB-C8375C4C9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A7C-7F3E-40B3-BE70-8D9F3912BF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D33-2747-4BA1-83B8-0D9BD105F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8AA6-6AFE-4F6B-943B-D7E47B68AA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792-7B5A-489D-A4C2-1AE7EB2DBA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DE1-A302-4E68-BA9A-9CF49877D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1C58-DFB2-40A6-B641-C7C09D68E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26C0-B833-49EB-9823-53E923EA1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94EB-27EC-428E-9DB5-B363BEA40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7B5E-1976-414B-80B1-8A35287EDB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A126-0935-4CEA-A994-E3A86BA83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D6AB-AC43-44EF-962C-D6C16A9B2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D8DC-4148-4172-83EF-3E95991D5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0C4-76CB-4203-8793-B597B388D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3A1-9B2C-4B35-81FD-348AA72DA4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224-C80D-4335-B5A5-15B69EB98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14D0-1459-4838-AD96-05A0F6976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BD62-DEFE-439A-BFBD-35469F0C1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0D89-0B9E-44F9-8847-5178DC10D3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4EF-738A-4E3F-A9EC-42D894E6E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1933-1312-472C-BB61-F500C50A77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12E-BD61-45DC-8F6D-A75C79066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F2FD-3A61-43DD-AB6E-2B5155B60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B91-B2C5-4483-8368-F303D35B0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E91C-65EB-4760-AB4E-B7239DC2C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31C-4B6D-4437-83D7-626A3257A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586320" y="2060640"/>
            <a:ext cx="1971360" cy="6476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467080" y="3336840"/>
            <a:ext cx="42098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138240" y="1343160"/>
            <a:ext cx="8867520" cy="417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164360" y="3059280"/>
            <a:ext cx="1440000" cy="252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00000" y="5229360"/>
            <a:ext cx="422280" cy="304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094440" y="5229360"/>
            <a:ext cx="4222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214200" y="1623960"/>
            <a:ext cx="8715600" cy="3610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422280" cy="231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3708360" y="3573360"/>
            <a:ext cx="422280" cy="231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003640" y="3625920"/>
            <a:ext cx="422280" cy="231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031080" y="3616200"/>
            <a:ext cx="422280" cy="231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2906640" y="4230720"/>
            <a:ext cx="647640" cy="3506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9416" descr=""/>
          <p:cNvPicPr/>
          <p:nvPr/>
        </p:nvPicPr>
        <p:blipFill>
          <a:blip r:embed="rId7"/>
          <a:stretch/>
        </p:blipFill>
        <p:spPr>
          <a:xfrm>
            <a:off x="7016760" y="4513320"/>
            <a:ext cx="18194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885960" y="1471680"/>
            <a:ext cx="7372080" cy="3914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419640" y="3132000"/>
            <a:ext cx="296640" cy="281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5100480" y="3141720"/>
            <a:ext cx="297000" cy="2808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6804000" y="3132000"/>
            <a:ext cx="297000" cy="281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4643280" y="5013360"/>
            <a:ext cx="2881440" cy="2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33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